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7C3F-757C-4841-9AD4-B7A16F09E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7DA1-B600-4FB6-A70C-5FD8E6019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8989-B66C-4190-9988-B4D5996A8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9300-12B4-4231-AF76-5573C6870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FFD7-E770-4109-9F74-2A1E10DE4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516-2A52-4A9B-A9E1-3721DBE10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8F24-239D-43CA-A16E-5EEF355F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11DB-016E-4272-B548-A02D4A58C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487F-7862-498D-BA59-A7210A1D9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458-7715-49F8-8CAD-F338C05D5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8454-4129-4C25-BCBA-352C07D11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EA44-295E-4DB2-A7D7-B74AD69C1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0774-0D4A-49C0-B7D7-A706027D76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591-13ED-4DED-A045-DEEB6273CC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-Pair-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3716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specific student you have encountered who has a learning disability and finds learning particularly challenging.  Which of the cognitive processes pose challenges for this student?  How did that manifest itself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7A20-20AB-4A53-8802-40E208CFC8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TIPS lesson from the sampl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lesson to familiarize yourself with the content an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t again with the cognitive processes in mind, t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modifications to better meet needs of students with learning dis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modifications alread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704-0100-4C58-AF36-51AA300313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ample TIPS Less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following les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9 Applied - Propo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0 Applied - Trigon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Workplace -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1 Functions and Applications -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. 12 Advanced Functions - Ration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99F5-D9CE-4256-9C39-CC842E7CAD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nah Zike’s Teaching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thematics with Foldab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0E5B-DD65-4EF4-B33E-AAFDA991E1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33520" y="20178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ldables result in student-made study guides that are compiled as students listen for main ideas, read for main ideas, and work their way through new concepts and proced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663-082F-4105-BDFC-EFD2E637DB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160020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template from the samples of “foldables”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“foldable” related to your TIPS lesson to support students with learning dis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40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reate a “Foldable”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92A7-B091-4F0E-9A87-AACFA428E7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457200" y="76320"/>
            <a:ext cx="8156520" cy="53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E82E-8F39-4BD2-AABC-F771D42D3C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4440" y="304920"/>
            <a:ext cx="693288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2DC3-3253-4F74-A672-6842D3180D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7960" cy="403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301788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A9C8-E474-4E0D-9101-B028587C9D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/>
          <p:cNvSpPr/>
          <p:nvPr/>
        </p:nvSpPr>
        <p:spPr>
          <a:xfrm>
            <a:off x="6553080" y="76320"/>
            <a:ext cx="152424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hree-Tab Boo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668-1A2A-4803-8D19-DEF7F2005D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57200" y="609480"/>
            <a:ext cx="51814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a sheet of paper like a hot d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ith the paper horizontal, and the fold of the hot dog up, fold the right side toward the center, trying to cover one half of th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ld the left side over the right side to make a book with three fo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pen the folded book. Cut up the two valleys on the top side only. This will form three t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 this book for data occurring in th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6760" y="533520"/>
            <a:ext cx="165564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447560" cy="114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6324480" y="2209680"/>
            <a:ext cx="838440" cy="130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6515280" y="4038480"/>
            <a:ext cx="1866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discuss and expl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gnitive processes, and how they impact students with learning dis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increase success for students with learning disabilities (e.g. creating fold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72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A19-747D-49FD-A12B-96016A81AE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72A0-C9A7-45DA-8B9B-2041D42FD8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4800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990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4114800" cy="176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1828800" cy="344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990720" y="2362320"/>
            <a:ext cx="42465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CF49-722A-4560-92CF-8CADB6E340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1120" y="380880"/>
            <a:ext cx="862200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759280" y="3219480"/>
            <a:ext cx="285120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BDB6-E491-4CDA-BB2D-E047E44C61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67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6F0-6617-46E7-B83B-E5A32A26EB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27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5D17-5177-4B63-9D69-0A2CE81ED2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81280" cy="253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9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3"/>
          <a:stretch/>
        </p:blipFill>
        <p:spPr>
          <a:xfrm>
            <a:off x="1295280" y="2971800"/>
            <a:ext cx="43736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6934320" y="2514600"/>
            <a:ext cx="160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5"/>
          <a:stretch/>
        </p:blipFill>
        <p:spPr>
          <a:xfrm>
            <a:off x="2438280" y="4876920"/>
            <a:ext cx="41925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51E5-04FE-457A-80A6-417957A7CB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/>
          <a:stretch/>
        </p:blipFill>
        <p:spPr>
          <a:xfrm>
            <a:off x="274680" y="314280"/>
            <a:ext cx="7954920" cy="501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5570640" y="5562720"/>
            <a:ext cx="24303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5C6-4E9D-450D-9F4F-505624F844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560520" y="-495360"/>
            <a:ext cx="8126280" cy="5905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5105520" y="-45720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0FC9-A381-4D75-AF65-8353D4CFEF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8727840" cy="4114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6985080" y="4495680"/>
            <a:ext cx="871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C9E-6668-407E-950B-3C943D02E3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3256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5410080" y="152280"/>
            <a:ext cx="1828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allery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D5C-F8C2-4B43-A64F-C18D653841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09480" y="13492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ew minutes to look at the foldables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foldables help students with learning dis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8FB0-D8B5-4A6D-9D9D-C1D49066AD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35080" y="1676520"/>
            <a:ext cx="8680320" cy="3759120"/>
            <a:chOff x="235080" y="1676520"/>
            <a:chExt cx="8680320" cy="3759120"/>
          </a:xfrm>
        </p:grpSpPr>
        <p:pic>
          <p:nvPicPr>
            <p:cNvPr id="5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7652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7180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3664080" y="34290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5873760" y="34290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C2D-6D89-4318-A4EA-9938D0990E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mathnmind.com/PDF%20Files/Pre-Algebra/dzf.pdf</a:t>
            </a: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speakmath.wordpress.com/2012/03/07/all-about-slope-foldable/# </a:t>
            </a:r>
            <a:br>
              <a:rPr sz="2400"/>
            </a:br>
            <a:endParaRPr b="0" lang="en-US" sz="2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6EE1-6E83-428D-AF22-A4FA7FF91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362320" y="1257480"/>
            <a:ext cx="4495680" cy="3085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rcRect l="0" t="22874" r="3443" b="21118"/>
          <a:stretch/>
        </p:blipFill>
        <p:spPr>
          <a:xfrm>
            <a:off x="2286000" y="4495680"/>
            <a:ext cx="4729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is September, and you are working with a new teacher on lesson pla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Math Camp, you have become more aware of the cognitive processes, and how they impact students with learning dis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2 or 3 pieces of advice could you give to help the teacher plan lessons to better meet the needs of these stud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B3FF-D660-4350-BB7D-E9DDB52C3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ormal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CDB-CC5F-4319-8714-EDE27FD2A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6"/>
          <p:cNvGrpSpPr/>
          <p:nvPr/>
        </p:nvGrpSpPr>
        <p:grpSpPr>
          <a:xfrm>
            <a:off x="235080" y="1600200"/>
            <a:ext cx="8680320" cy="3809880"/>
            <a:chOff x="235080" y="1600200"/>
            <a:chExt cx="8680320" cy="380988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650960"/>
              <a:ext cx="5861160" cy="26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235080" y="2946240"/>
              <a:ext cx="279396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8"/>
            <p:cNvSpPr/>
            <p:nvPr/>
          </p:nvSpPr>
          <p:spPr>
            <a:xfrm>
              <a:off x="3664080" y="340344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5873760" y="340344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8"/>
            <p:cNvSpPr/>
            <p:nvPr/>
          </p:nvSpPr>
          <p:spPr>
            <a:xfrm>
              <a:off x="4114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9"/>
            <p:cNvSpPr/>
            <p:nvPr/>
          </p:nvSpPr>
          <p:spPr>
            <a:xfrm>
              <a:off x="64008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0"/>
            <p:cNvSpPr/>
            <p:nvPr/>
          </p:nvSpPr>
          <p:spPr>
            <a:xfrm>
              <a:off x="8229600" y="286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2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1"/>
            <p:cNvSpPr/>
            <p:nvPr/>
          </p:nvSpPr>
          <p:spPr>
            <a:xfrm>
              <a:off x="3886200" y="43178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76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96240" y="43135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686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5"/>
            <p:cNvSpPr/>
            <p:nvPr/>
          </p:nvSpPr>
          <p:spPr>
            <a:xfrm>
              <a:off x="3048120" y="1600200"/>
              <a:ext cx="1371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Answe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F4F6-51C0-4E45-B026-B5C5E1FF19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387360" y="1523880"/>
            <a:ext cx="8528040" cy="3810240"/>
            <a:chOff x="387360" y="1523880"/>
            <a:chExt cx="8528040" cy="3810240"/>
          </a:xfrm>
        </p:grpSpPr>
        <p:pic>
          <p:nvPicPr>
            <p:cNvPr id="76" name="Picture 1" descr=""/>
            <p:cNvPicPr/>
            <p:nvPr/>
          </p:nvPicPr>
          <p:blipFill>
            <a:blip r:embed="rId1"/>
            <a:stretch/>
          </p:blipFill>
          <p:spPr>
            <a:xfrm>
              <a:off x="3054240" y="1523880"/>
              <a:ext cx="58611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"/>
            <p:cNvPicPr/>
            <p:nvPr/>
          </p:nvPicPr>
          <p:blipFill>
            <a:blip r:embed="rId2"/>
            <a:stretch/>
          </p:blipFill>
          <p:spPr>
            <a:xfrm>
              <a:off x="387360" y="28954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3581280" y="327672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5873760" y="327672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16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1 – New Addition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17B-ED06-4E77-92C8-7DA5DEBF4E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304920" y="1828800"/>
            <a:ext cx="8534160" cy="3119400"/>
            <a:chOff x="304920" y="1828800"/>
            <a:chExt cx="8534160" cy="3119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197856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5867280" cy="28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8"/>
            <p:cNvSpPr/>
            <p:nvPr/>
          </p:nvSpPr>
          <p:spPr>
            <a:xfrm>
              <a:off x="3595680" y="3457800"/>
              <a:ext cx="1128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2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34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205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5791320" y="3502800"/>
              <a:ext cx="1371600" cy="14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CA" sz="2400" spc="-1" strike="noStrike">
                  <a:solidFill>
                    <a:srgbClr val="000000"/>
                  </a:solidFill>
                  <a:latin typeface="Calibri"/>
                </a:rPr>
                <a:t>43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+ 2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alibri"/>
                </a:rPr>
                <a:t>113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ulation 2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C72-D69A-49C0-8E3D-F568F67291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182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142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0000"/>
          </a:bodyPr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students with learning disabilities in your school (i.e. in which course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ways your math department/school/Board currently supports students with learning disabilities that you think ar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600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B92D-2CDC-4921-BE38-151EFF1F34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.A.T. City Workshop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81640" cy="220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3808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ips would you give secondary math teachers to help them better meet the needs of students with these types of learning disabil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3520" y="3287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Comprehension –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952880" y="32878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ding and Decoding – p b d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209680" y="621504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F.A.T. City Workshops (Frustration, Anxiety, Tension), Rick Lavoie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ren</cp:lastModifiedBy>
  <dcterms:modified xsi:type="dcterms:W3CDTF">2012-07-22T00:20:59Z</dcterms:modified>
  <cp:revision>54</cp:revision>
  <dc:subject/>
  <dc:title>&lt;Title&gt;</dc:title>
</cp:coreProperties>
</file>